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93F-19EB-430F-B74D-948B8262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F0B-6177-46A0-9C16-B51DF550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1F5-7B81-48CE-8994-48A1AD79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826-5B58-4BA7-8B17-A729EC34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A292-3C42-4DFD-A148-4013B8E5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2DF7-D3F0-4136-AA97-CB81FF58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948A-28F6-49AC-9E9F-96802FC3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7E57-76E8-4F7C-B81F-00BA5807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D839-8428-47DF-BD54-5CEE8C5D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E213-28F4-4106-BFEC-E89E4CA0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0819-C94D-409D-82A4-98AF3DA9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D58-949D-45F9-AE3B-C701EF25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B8CD-7657-4E7F-988C-21C172F4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A7F1-7520-426E-8E50-2970EA3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822E-B6B6-42D4-BAD5-A45F6EAC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058E-F1D8-44DC-AAC8-F4D3C386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F299-E095-4DDB-8411-CC618E4B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027-7706-46BC-BD7D-026BE015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690-807B-49FC-B362-B7DF1944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5A5-7B95-4202-B619-01EB552B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6A0-4BD1-4B3C-B1B0-44B07462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DA1-AF16-4C11-862D-732EC882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74C-5A15-41F5-AA1E-FB3BF09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A0A-D842-480C-BDD2-D4A19642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13C9-5298-43CD-8AA2-6D0E9FFBF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B7B4-8B3D-4A02-B2DE-2D3417804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3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b7"/>
                </a:solidFill>
                <a:latin typeface="Arial Black"/>
              </a:rPr>
              <a:t>ИГР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ком периоде все издержки являются перемен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5029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В долгосрочном пери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60958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13489" y="3837"/>
                </a:moveTo>
                <a:lnTo>
                  <a:pt x="16065" y="6448"/>
                </a:ln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lnTo>
                  <a:pt x="20452" y="10800"/>
                </a:lnTo>
                <a:lnTo>
                  <a:pt x="18798" y="10800"/>
                </a:lnTo>
                <a:lnTo>
                  <a:pt x="18798" y="17989"/>
                </a:lnTo>
                <a:lnTo>
                  <a:pt x="8180" y="17989"/>
                </a:lnTo>
                <a:lnTo>
                  <a:pt x="8180" y="10800"/>
                </a:lnTo>
                <a:lnTo>
                  <a:pt x="6526" y="10800"/>
                </a:lnTo>
                <a:close/>
              </a:path>
              <a:path fill="darkenLess" w="26978" h="21600">
                <a:moveTo>
                  <a:pt x="16065" y="6448"/>
                </a:move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close/>
              </a:path>
              <a:path fill="darkenLess" w="26978" h="21600">
                <a:moveTo>
                  <a:pt x="12566" y="14299"/>
                </a:moveTo>
                <a:lnTo>
                  <a:pt x="14411" y="14299"/>
                </a:lnTo>
                <a:lnTo>
                  <a:pt x="14411" y="17989"/>
                </a:lnTo>
                <a:lnTo>
                  <a:pt x="18798" y="17989"/>
                </a:lnTo>
                <a:lnTo>
                  <a:pt x="18798" y="10800"/>
                </a:lnTo>
                <a:lnTo>
                  <a:pt x="8180" y="10800"/>
                </a:lnTo>
                <a:lnTo>
                  <a:pt x="8180" y="17989"/>
                </a:lnTo>
                <a:lnTo>
                  <a:pt x="12566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средних переменных затрат имеет вид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C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Найти алгебраическое выражение для функции предельных затрат. Постоянные затраты равны 200 ден. е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5334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означает продажа одинаковой продукции разным покупателям по разным цена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4876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Ценовая дискримин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ая черта рынка совершенной и монополистической конкуренци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800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Множество покупателей и продавц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13495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4" y="10800"/>
                </a:lnTo>
                <a:lnTo>
                  <a:pt x="18804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2" y="10800"/>
                </a:lnTo>
                <a:close/>
              </a:path>
              <a:path fill="darkenLess" w="26990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0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4" y="17989"/>
                </a:lnTo>
                <a:lnTo>
                  <a:pt x="18804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ие издержки конкурентной фирмы описываются формул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 = 4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к изменится объем выпуска фирмы, если цена на продукцию с 200 ден. ед. за штуку упадет до 100 ден. ед. за шту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5257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снизится на 25 един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2286000" cy="12189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ос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82880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о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ре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42900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держ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95288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ория ры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97180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495288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685800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495288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297180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297180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685800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8" action="ppaction://hlinksldjump"/>
          </p:cNvPr>
          <p:cNvSpPr/>
          <p:nvPr/>
        </p:nvSpPr>
        <p:spPr>
          <a:xfrm>
            <a:off x="685800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495288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10" action="ppaction://hlinksldjump"/>
          </p:cNvPr>
          <p:cNvSpPr/>
          <p:nvPr/>
        </p:nvSpPr>
        <p:spPr>
          <a:xfrm>
            <a:off x="495288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1" action="ppaction://hlinksldjump"/>
          </p:cNvPr>
          <p:cNvSpPr/>
          <p:nvPr/>
        </p:nvSpPr>
        <p:spPr>
          <a:xfrm>
            <a:off x="297180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2" action="ppaction://hlinksldjump"/>
          </p:cNvPr>
          <p:cNvSpPr/>
          <p:nvPr/>
        </p:nvSpPr>
        <p:spPr>
          <a:xfrm>
            <a:off x="685800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вая, точки которой показывают, по каким ценам в течение определенного времени покупатели могли бы приобрести различные количества товара – э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1480" y="48769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Кривая спр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закон утверждает, что существует прямая зависимость между ценой товара и объемом предлож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800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Закон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153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ы функции спроса и предложения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3P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спрос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-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функция предложения). Найдите равновесную цену и равновесный объе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9 и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йство товара или услуги удовлетворять потребность ес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724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4952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Полез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153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е цену товара А, если цена товара В 7 ден. е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666880" y="2666880"/>
            <a:ext cx="3885480" cy="2345400"/>
            <a:chOff x="2666880" y="2666880"/>
            <a:chExt cx="3885480" cy="2345400"/>
          </a:xfrm>
        </p:grpSpPr>
        <p:sp>
          <p:nvSpPr>
            <p:cNvPr id="134" name=""/>
            <p:cNvSpPr/>
            <p:nvPr/>
          </p:nvSpPr>
          <p:spPr>
            <a:xfrm>
              <a:off x="2822040" y="2666880"/>
              <a:ext cx="4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666880" y="2739600"/>
              <a:ext cx="3885480" cy="2272680"/>
              <a:chOff x="2666880" y="2739600"/>
              <a:chExt cx="3885480" cy="227268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3444120" y="2739600"/>
                <a:ext cx="0" cy="169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44120" y="4430880"/>
                <a:ext cx="279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44120" y="3328200"/>
                <a:ext cx="1864800" cy="11023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930640" y="4430880"/>
                <a:ext cx="621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В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76000" y="4430880"/>
                <a:ext cx="77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66880" y="3034080"/>
                <a:ext cx="69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32767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итель располагает доходом в 80 ден. ед. и приобретает 2 товара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 - ценой 5 ден.ед.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ценой 4 ден.ед. Какой из следующих товаров наборов недоступен для потреби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5257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Х=10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траты на единицу выпускаемой продукции ес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029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Средние из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60958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13489" y="3837"/>
                </a:moveTo>
                <a:lnTo>
                  <a:pt x="16065" y="6448"/>
                </a:ln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lnTo>
                  <a:pt x="20452" y="10800"/>
                </a:lnTo>
                <a:lnTo>
                  <a:pt x="18798" y="10800"/>
                </a:lnTo>
                <a:lnTo>
                  <a:pt x="18798" y="17989"/>
                </a:lnTo>
                <a:lnTo>
                  <a:pt x="8180" y="17989"/>
                </a:lnTo>
                <a:lnTo>
                  <a:pt x="8180" y="10800"/>
                </a:lnTo>
                <a:lnTo>
                  <a:pt x="6526" y="10800"/>
                </a:lnTo>
                <a:close/>
              </a:path>
              <a:path fill="darkenLess" w="26978" h="21600">
                <a:moveTo>
                  <a:pt x="16065" y="6448"/>
                </a:move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close/>
              </a:path>
              <a:path fill="darkenLess" w="26978" h="21600">
                <a:moveTo>
                  <a:pt x="12566" y="14299"/>
                </a:moveTo>
                <a:lnTo>
                  <a:pt x="14411" y="14299"/>
                </a:lnTo>
                <a:lnTo>
                  <a:pt x="14411" y="17989"/>
                </a:lnTo>
                <a:lnTo>
                  <a:pt x="18798" y="17989"/>
                </a:lnTo>
                <a:lnTo>
                  <a:pt x="18798" y="10800"/>
                </a:lnTo>
                <a:lnTo>
                  <a:pt x="8180" y="10800"/>
                </a:lnTo>
                <a:lnTo>
                  <a:pt x="8180" y="17989"/>
                </a:lnTo>
                <a:lnTo>
                  <a:pt x="12566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9-12-15T06:16:2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